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8A1-DC83-4153-BA8E-BB89DE62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3FA-4F4F-4BFB-97BF-52F785A4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C84-D71C-4831-94A8-DB929EAE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735-BE22-45DC-8588-C01BB4D8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A36-1BF4-4DAE-ACE9-B1ACFE5A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40D-8C9B-49A2-8737-4D52FF6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8A2-F4AC-4EB9-BE54-4867A24C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363-6111-452C-87EB-40A34BF2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E93-DCAD-4638-9A9F-2D06441C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1E5-44A1-479A-AEA3-55E1366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DCC-01CE-4B58-BFD9-29128EC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B1E-69FB-49D6-B612-556B1A6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FB3D-C946-4B66-B4CB-2217B744FC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1040" y="5392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17600" y="4816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rst 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442840" y="544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338840" y="54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äu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421960" y="4816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43040" y="39290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nennt man die einzige weibliche Figur beim Sch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17600" y="48164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ü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423760" y="48164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334880" y="5445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fe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443200" y="5445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ch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0200" y="3929040"/>
            <a:ext cx="44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bringt laut einem Sprichwort Glü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18680" y="48164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chlä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407200" y="4816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341720" y="5445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under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439960" y="5445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392904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as haben Tennis, Tischtennis, Volleyball und Badminton gemeins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096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071720" y="3929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Finger haben die Mitglieder der Simpsons an einer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9800" y="4816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38160" y="5445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4058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0680" y="392904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st eine Suchmaschine im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4065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1472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Land grenzt nicht an die Schwei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225400" y="479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22720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6612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126720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35728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Zu welchem Land gehört die Insel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227920" y="4797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266840" y="5445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68640" y="4797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226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857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 welchem Land kann man nicht mit Euro zah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448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romp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648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r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4320" y="4797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22756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Xylop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4308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elches Instrument ist kein Blasinstru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222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324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180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262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786040" y="39290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Kanten hat ein Wür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4680" y="54450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37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000240" y="39290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breit ist ein Fussball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52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2360" y="392904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he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ß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t die Hauptstadt der Türk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944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4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1312920" y="5392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289120" y="54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857240" y="39290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Wie viele Harry Potter Bücher sind bisher erschie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31760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44716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4316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42700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28880" y="392904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er sang den berühmten Hit 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dapest ist die Hauptstadt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320480" y="48164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lowe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23400" y="481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4284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oa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341000" y="54450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03:27Z</dcterms:modified>
  <cp:revision>56</cp:revision>
  <dc:subject/>
  <dc:title>Folie 1</dc:title>
</cp:coreProperties>
</file>